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80A5-9B18-41E0-9DBA-60F0B1B61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E1D4-0FEF-4BE2-B113-3227CD02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279D-74A9-4534-A779-651B58919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C982-A162-4635-94E0-0493457A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D4B0-DDC2-42F9-97E5-3B68253D4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0524-8533-45D9-BECB-E052EB27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034C-17DE-4C07-9F0D-519873EB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12A6-9F2B-4607-A262-D4F10851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421A-2BAA-4E36-BEB7-D2FD9F2C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5E52-6C0D-4FBA-A8DF-6F7A7B28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AC6A-3D71-4473-A12A-CADC07F1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210D-C7A3-4C00-BC9A-499D8544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E636-1B18-46B8-B0DB-185B5162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4453-B77F-48CA-ACE3-20229FC0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A98E-5879-45CD-858E-68806EEE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83A1-9660-4723-86F6-860180CE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CF5E-BB96-441A-906C-0BBB9F6E5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195B-2A7D-47E1-A767-17AEC87E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4FB8-40BD-43AD-8D32-FE30BDD5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5C2F-F911-4025-9543-2940AE22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4E63-FB7E-435B-9FA0-FF818767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E295-1F1D-49D1-A8EA-1C86F935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F719-069D-4B34-8D26-8DFB352A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BC90-D714-48E3-8D5E-AF6F8AFD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3D02-A550-4EBF-9005-ABE4567441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9E21-9B10-4758-9F99-0995D822BB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6666"/>
                </a:solidFill>
                <a:latin typeface="Arial"/>
              </a:rPr>
              <a:t>Bruxelles</a:t>
            </a:r>
            <a:endParaRPr b="0" lang="en-US" sz="9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" name="Picture 7" descr="Afficher l'image en taille réelle"/>
          <p:cNvPicPr/>
          <p:nvPr/>
        </p:nvPicPr>
        <p:blipFill>
          <a:blip r:embed="rId1"/>
          <a:stretch/>
        </p:blipFill>
        <p:spPr>
          <a:xfrm>
            <a:off x="7812000" y="260280"/>
            <a:ext cx="1152720" cy="1017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ANd9GcT9s8mosYK_9b2S_K8x9HmnayyNdaPZGJIhrFC_wAUkJatq2zEcaw"/>
          <p:cNvPicPr/>
          <p:nvPr/>
        </p:nvPicPr>
        <p:blipFill>
          <a:blip r:embed="rId2"/>
          <a:stretch/>
        </p:blipFill>
        <p:spPr>
          <a:xfrm>
            <a:off x="2843280" y="3068640"/>
            <a:ext cx="435276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Bruxell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63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Bruxelles est la capitale de la Belgiqu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27" descr="Afficher l'image en taille réelle"/>
          <p:cNvPicPr/>
          <p:nvPr/>
        </p:nvPicPr>
        <p:blipFill>
          <a:blip r:embed="rId1"/>
          <a:stretch/>
        </p:blipFill>
        <p:spPr>
          <a:xfrm>
            <a:off x="6372360" y="3933720"/>
            <a:ext cx="1368360" cy="1208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8" descr=""/>
          <p:cNvPicPr/>
          <p:nvPr/>
        </p:nvPicPr>
        <p:blipFill>
          <a:blip r:embed="rId2"/>
          <a:stretch/>
        </p:blipFill>
        <p:spPr>
          <a:xfrm>
            <a:off x="1692360" y="3573360"/>
            <a:ext cx="3097080" cy="26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Bruxell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02920" y="1844640"/>
            <a:ext cx="7201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On y trouve le siège de l’Union Européenn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3564000" y="3284640"/>
            <a:ext cx="2455920" cy="32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Bruxell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640" y="1827360"/>
            <a:ext cx="7711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es antiquaires et ses marchés aux puces sont célèbre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1"/>
          <a:stretch/>
        </p:blipFill>
        <p:spPr>
          <a:xfrm>
            <a:off x="2484360" y="3284640"/>
            <a:ext cx="463860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Bruxell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’est une ville importante pour la bande dessiné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1"/>
          <a:stretch/>
        </p:blipFill>
        <p:spPr>
          <a:xfrm>
            <a:off x="1042920" y="3429000"/>
            <a:ext cx="2521080" cy="1976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"/>
          <p:cNvPicPr/>
          <p:nvPr/>
        </p:nvPicPr>
        <p:blipFill>
          <a:blip r:embed="rId2"/>
          <a:stretch/>
        </p:blipFill>
        <p:spPr>
          <a:xfrm>
            <a:off x="4140360" y="4365720"/>
            <a:ext cx="410364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Bruxell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La ville a de nombreux festival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1"/>
          <a:stretch/>
        </p:blipFill>
        <p:spPr>
          <a:xfrm>
            <a:off x="468360" y="3573360"/>
            <a:ext cx="2362320" cy="2025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2"/>
          <a:stretch/>
        </p:blipFill>
        <p:spPr>
          <a:xfrm>
            <a:off x="6588000" y="2852640"/>
            <a:ext cx="2264040" cy="1452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3"/>
          <a:stretch/>
        </p:blipFill>
        <p:spPr>
          <a:xfrm>
            <a:off x="3635280" y="4653000"/>
            <a:ext cx="275616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Bruxell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 Manneken-Pis et l’Atomium sont tr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ès célèbre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tretch/>
        </p:blipFill>
        <p:spPr>
          <a:xfrm>
            <a:off x="1042920" y="3213000"/>
            <a:ext cx="1954440" cy="2592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2"/>
          <a:stretch/>
        </p:blipFill>
        <p:spPr>
          <a:xfrm>
            <a:off x="4643280" y="3506760"/>
            <a:ext cx="331344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Bruxell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s frites belges sont les meilleures du mond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8" descr=""/>
          <p:cNvPicPr/>
          <p:nvPr/>
        </p:nvPicPr>
        <p:blipFill>
          <a:blip r:embed="rId1"/>
          <a:stretch/>
        </p:blipFill>
        <p:spPr>
          <a:xfrm>
            <a:off x="1187280" y="3357720"/>
            <a:ext cx="2808360" cy="1568160"/>
          </a:xfrm>
          <a:prstGeom prst="rect">
            <a:avLst/>
          </a:prstGeom>
          <a:ln w="0">
            <a:noFill/>
          </a:ln>
        </p:spPr>
      </p:pic>
      <p:pic>
        <p:nvPicPr>
          <p:cNvPr id="119" name="il_fi" descr="http://t3.gstatic.com/images?q=tbn:ANd9GcRWx2YT68wx3eOp5k-7Yzy1_smsEKeWc5UezJa_HOy5I2aekC6Ky2CWRh1V"/>
          <p:cNvPicPr/>
          <p:nvPr/>
        </p:nvPicPr>
        <p:blipFill>
          <a:blip r:embed="rId2"/>
          <a:stretch/>
        </p:blipFill>
        <p:spPr>
          <a:xfrm>
            <a:off x="4859280" y="4365720"/>
            <a:ext cx="3068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0:12:09Z</dcterms:created>
  <dc:creator>CEC</dc:creator>
  <dc:description/>
  <dc:language>en-US</dc:language>
  <cp:lastModifiedBy>Delphine Gachet</cp:lastModifiedBy>
  <dcterms:modified xsi:type="dcterms:W3CDTF">2013-02-24T12:28:36Z</dcterms:modified>
  <cp:revision>11</cp:revision>
  <dc:subject/>
  <dc:title>Genève</dc:title>
</cp:coreProperties>
</file>